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0A8C-99AE-4B9D-BE5D-734BD651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397-989F-45C7-A3BD-DD506F83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EE8B-F99C-405D-8106-D957C52B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362-91C8-430D-884A-46EA5FF4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4CD7-1AD8-4D55-B88F-D461B554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18A-5346-4E3C-8E73-22D5DE25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EA6-082C-4F14-94AF-9A03EA55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896-704F-4092-AB9D-4F6D5D27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157-8279-4A56-96E5-A98D14FA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6DF3-A6AF-4791-8160-20DAB8A4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670F-6727-4BB1-B774-FE2A2DF3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7D0-6B2B-463B-A184-F37A0F03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5187-1FFC-40A8-BDC2-3F58B56E27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Сумма углов треугольника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800000"/>
                </a:solidFill>
                <a:uFillTx/>
                <a:latin typeface="Arial"/>
              </a:rPr>
              <a:t>Разработчик: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учитель математики МОУ СОШ № 2 города Радужный</a:t>
            </a:r>
            <a:br>
              <a:rPr sz="3000"/>
            </a:br>
            <a:br>
              <a:rPr sz="3000"/>
            </a:b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Мишурова Любовь Александ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оотноше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между сторонами и углами треугольн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7856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треугольнике: 1) против большей стороны лежит больший уго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) обратно, против большего угла лежит большая сторо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)АС большая сторона, значит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больш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большей, значит АС большая сторо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ая соединительная линия 4"/>
          <p:cNvSpPr/>
          <p:nvPr/>
        </p:nvSpPr>
        <p:spPr>
          <a:xfrm flipV="1">
            <a:off x="928800" y="4143240"/>
            <a:ext cx="1000080" cy="15717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Прямая соединительная линия 8"/>
          <p:cNvSpPr/>
          <p:nvPr/>
        </p:nvSpPr>
        <p:spPr>
          <a:xfrm>
            <a:off x="1928880" y="4143240"/>
            <a:ext cx="3000240" cy="78588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Прямая соединительная линия 10"/>
          <p:cNvSpPr/>
          <p:nvPr/>
        </p:nvSpPr>
        <p:spPr>
          <a:xfrm flipV="1">
            <a:off x="928800" y="4928760"/>
            <a:ext cx="3929040" cy="78588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793080" y="564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4857840" y="47862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Box 13"/>
          <p:cNvSpPr/>
          <p:nvPr/>
        </p:nvSpPr>
        <p:spPr>
          <a:xfrm flipH="1">
            <a:off x="1785960" y="375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ЛЕДСТВ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 В прямоугольном треугольнике гипотенуза больше кате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сли в треугольнике два угла равны, то треугольник равнобедренный( признак равнобедренного треугольника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НЕРАВЕНСТВО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орема: Каждая сторона треугольника меньше суммы двух других сторо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ано: треугольник АВ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казать: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С+В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казательство: Отложим на продолжении стороны А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Д=ВС. Треугольник ВСД равнобедренный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 а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реугольнике АВД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 значит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 то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о АД=АС+СД=АС+СВ, поэтому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С+В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4"/>
          <p:cNvSpPr/>
          <p:nvPr/>
        </p:nvSpPr>
        <p:spPr>
          <a:xfrm>
            <a:off x="4286160" y="3786120"/>
            <a:ext cx="3286080" cy="18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Прямая соединительная линия 6"/>
          <p:cNvSpPr/>
          <p:nvPr/>
        </p:nvSpPr>
        <p:spPr>
          <a:xfrm flipV="1">
            <a:off x="4286160" y="2642760"/>
            <a:ext cx="85752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Прямая соединительная линия 8"/>
          <p:cNvSpPr/>
          <p:nvPr/>
        </p:nvSpPr>
        <p:spPr>
          <a:xfrm>
            <a:off x="5143680" y="2643120"/>
            <a:ext cx="242856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Прямая соединительная линия 10"/>
          <p:cNvSpPr/>
          <p:nvPr/>
        </p:nvSpPr>
        <p:spPr>
          <a:xfrm>
            <a:off x="5142960" y="2643120"/>
            <a:ext cx="85716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7072200" y="3500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5286240" y="2714760"/>
            <a:ext cx="6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 flipH="1">
            <a:off x="5571720" y="3214800"/>
            <a:ext cx="14292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Прямая соединительная линия 18"/>
          <p:cNvSpPr/>
          <p:nvPr/>
        </p:nvSpPr>
        <p:spPr>
          <a:xfrm flipH="1">
            <a:off x="6500880" y="3716280"/>
            <a:ext cx="1440" cy="2142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20"/>
          <p:cNvSpPr/>
          <p:nvPr/>
        </p:nvSpPr>
        <p:spPr>
          <a:xfrm>
            <a:off x="5078520" y="2357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Box 21"/>
          <p:cNvSpPr/>
          <p:nvPr/>
        </p:nvSpPr>
        <p:spPr>
          <a:xfrm>
            <a:off x="4007880" y="3714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Box 22"/>
          <p:cNvSpPr/>
          <p:nvPr/>
        </p:nvSpPr>
        <p:spPr>
          <a:xfrm>
            <a:off x="5786280" y="378612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Box 23"/>
          <p:cNvSpPr/>
          <p:nvPr/>
        </p:nvSpPr>
        <p:spPr>
          <a:xfrm>
            <a:off x="7500960" y="3643200"/>
            <a:ext cx="4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ЛЕДСТВ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ЛЯ ЛЮБЫХ ТРЁХ ТОЧЕК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,В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С, не лежащих на одной прямой, справедливы неравенства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В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АС+ВС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С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АВ+ВС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ВС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ВА+АС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142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ЯМОУГОЛЬНЫЕ ТРЕУГОЛЬНИКИ(свойства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6280" y="1714680"/>
            <a:ext cx="80010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Сумма двух острых углов прямоугольного треугольника равна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Катет прямоугольного треугольника, лежащий против угла в 3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равен половине гипотенуз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Сумма двух острых углов прямоугольного треугольника равна 9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ый треугольник 3"/>
          <p:cNvSpPr/>
          <p:nvPr/>
        </p:nvSpPr>
        <p:spPr>
          <a:xfrm>
            <a:off x="900000" y="2276640"/>
            <a:ext cx="3284640" cy="33573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934920" y="200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642960" y="5500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4284720" y="53737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Прямая соединительная линия 10"/>
          <p:cNvSpPr/>
          <p:nvPr/>
        </p:nvSpPr>
        <p:spPr>
          <a:xfrm>
            <a:off x="928800" y="5357880"/>
            <a:ext cx="357120" cy="14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ая соединительная линия 12"/>
          <p:cNvSpPr/>
          <p:nvPr/>
        </p:nvSpPr>
        <p:spPr>
          <a:xfrm flipH="1">
            <a:off x="1283760" y="5359320"/>
            <a:ext cx="180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929040" y="191628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=90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Катет прямоугольного треугольника, лежащего против угла в 3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равен половине гипотенуз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смотрим треугольник АВС, где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=9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=3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=6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 Док-ть, что АС=½ВС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285840" y="1643040"/>
            <a:ext cx="8001000" cy="47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ассмотрим треугольник АВС, где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=9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=3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=6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 Докажем, что АС=½ВС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ожим к треугольнику АВС равный 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еугольник АВД. Получи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еугольник ВСД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=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этому ДС = ВС, но АС= ½ ДС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начит АС = ½ ВС.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Равнобедренный треугольник 4"/>
          <p:cNvSpPr/>
          <p:nvPr/>
        </p:nvSpPr>
        <p:spPr>
          <a:xfrm>
            <a:off x="857160" y="3643200"/>
            <a:ext cx="2500560" cy="2057400"/>
          </a:xfrm>
          <a:prstGeom prst="triangle">
            <a:avLst>
              <a:gd name="adj" fmla="val 53079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Прямая соединительная линия 6"/>
          <p:cNvSpPr/>
          <p:nvPr/>
        </p:nvSpPr>
        <p:spPr>
          <a:xfrm>
            <a:off x="2181960" y="3645000"/>
            <a:ext cx="1800" cy="20574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2000160" y="3286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571680" y="54291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3357720" y="54291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2071800" y="571500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1714680" y="407196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2143080" y="40719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Box 22"/>
          <p:cNvSpPr/>
          <p:nvPr/>
        </p:nvSpPr>
        <p:spPr>
          <a:xfrm>
            <a:off x="928800" y="5357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2643120" y="52862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1571400"/>
            <a:ext cx="8929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ссмотрим прямоугольный треугольник АВС, у которого катет АС равен половине гипотенузы ВС. Докажем, что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=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ожим к треугольнику АВС рав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му треугольник АВД, получим равно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оронний треугольник ВСД, г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С=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С=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, следовательно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=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Равнобедренный треугольник 3"/>
          <p:cNvSpPr/>
          <p:nvPr/>
        </p:nvSpPr>
        <p:spPr>
          <a:xfrm>
            <a:off x="428760" y="3357720"/>
            <a:ext cx="2714400" cy="2428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Прямая соединительная линия 5"/>
          <p:cNvSpPr/>
          <p:nvPr/>
        </p:nvSpPr>
        <p:spPr>
          <a:xfrm>
            <a:off x="1784520" y="3357720"/>
            <a:ext cx="1440" cy="24303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Прямая соединительная линия 7"/>
          <p:cNvSpPr/>
          <p:nvPr/>
        </p:nvSpPr>
        <p:spPr>
          <a:xfrm flipH="1">
            <a:off x="1212840" y="5645160"/>
            <a:ext cx="144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ая соединительная линия 9"/>
          <p:cNvSpPr/>
          <p:nvPr/>
        </p:nvSpPr>
        <p:spPr>
          <a:xfrm flipH="1">
            <a:off x="2426760" y="5645160"/>
            <a:ext cx="180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ая соединительная линия 11"/>
          <p:cNvSpPr/>
          <p:nvPr/>
        </p:nvSpPr>
        <p:spPr>
          <a:xfrm>
            <a:off x="857160" y="4714920"/>
            <a:ext cx="28584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ая соединительная линия 17"/>
          <p:cNvSpPr/>
          <p:nvPr/>
        </p:nvSpPr>
        <p:spPr>
          <a:xfrm>
            <a:off x="785880" y="4857840"/>
            <a:ext cx="35712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Прямая соединительная линия 19"/>
          <p:cNvSpPr/>
          <p:nvPr/>
        </p:nvSpPr>
        <p:spPr>
          <a:xfrm flipH="1">
            <a:off x="2286000" y="4500720"/>
            <a:ext cx="285840" cy="1425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Прямая соединительная линия 21"/>
          <p:cNvSpPr/>
          <p:nvPr/>
        </p:nvSpPr>
        <p:spPr>
          <a:xfrm flipH="1">
            <a:off x="2357280" y="4571280"/>
            <a:ext cx="28584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Прямая соединительная линия 23"/>
          <p:cNvSpPr/>
          <p:nvPr/>
        </p:nvSpPr>
        <p:spPr>
          <a:xfrm>
            <a:off x="1785960" y="5429160"/>
            <a:ext cx="214200" cy="18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Прямая соединительная линия 25"/>
          <p:cNvSpPr/>
          <p:nvPr/>
        </p:nvSpPr>
        <p:spPr>
          <a:xfrm flipH="1">
            <a:off x="1998720" y="5430960"/>
            <a:ext cx="1440" cy="3571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Box 26"/>
          <p:cNvSpPr/>
          <p:nvPr/>
        </p:nvSpPr>
        <p:spPr>
          <a:xfrm flipH="1">
            <a:off x="1642320" y="3000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Box 27"/>
          <p:cNvSpPr/>
          <p:nvPr/>
        </p:nvSpPr>
        <p:spPr>
          <a:xfrm>
            <a:off x="3143160" y="550080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Box 28"/>
          <p:cNvSpPr/>
          <p:nvPr/>
        </p:nvSpPr>
        <p:spPr>
          <a:xfrm>
            <a:off x="1643040" y="578628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Box 29"/>
          <p:cNvSpPr/>
          <p:nvPr/>
        </p:nvSpPr>
        <p:spPr>
          <a:xfrm>
            <a:off x="142920" y="55720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Box 30"/>
          <p:cNvSpPr/>
          <p:nvPr/>
        </p:nvSpPr>
        <p:spPr>
          <a:xfrm>
            <a:off x="500040" y="54291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Box 31"/>
          <p:cNvSpPr/>
          <p:nvPr/>
        </p:nvSpPr>
        <p:spPr>
          <a:xfrm>
            <a:off x="2724480" y="5429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Box 32"/>
          <p:cNvSpPr/>
          <p:nvPr/>
        </p:nvSpPr>
        <p:spPr>
          <a:xfrm>
            <a:off x="1500120" y="371484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Box 33"/>
          <p:cNvSpPr/>
          <p:nvPr/>
        </p:nvSpPr>
        <p:spPr>
          <a:xfrm>
            <a:off x="1714680" y="3714840"/>
            <a:ext cx="4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катеты одного прямоугольного треугольника соответственно равны катетам другого, то такие треугольники равн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0010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анные слайды используются при рассмотрении теоретического материала по теме: соотношения между сторонами и углами треугольник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гипотенуза и острый угол одного прямоугольника соответственно равны гипотенузе и острому углу другого, то такие треугольники равны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гипотенуза и катет одного прямоугольника соответственно равны гипотенузе и катету другого, то такие треугольники равны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Сумма углов треугольни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76360" y="981000"/>
            <a:ext cx="640080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Сумма углов треугольника равна 180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=18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Line 5"/>
          <p:cNvSpPr/>
          <p:nvPr/>
        </p:nvSpPr>
        <p:spPr>
          <a:xfrm flipV="1">
            <a:off x="2700360" y="3068280"/>
            <a:ext cx="180036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6"/>
          <p:cNvSpPr/>
          <p:nvPr/>
        </p:nvSpPr>
        <p:spPr>
          <a:xfrm>
            <a:off x="4500720" y="3068640"/>
            <a:ext cx="244764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Line 7"/>
          <p:cNvSpPr/>
          <p:nvPr/>
        </p:nvSpPr>
        <p:spPr>
          <a:xfrm>
            <a:off x="2700360" y="5445000"/>
            <a:ext cx="4248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249640" y="5032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626000" y="265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877080" y="593892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ано:    треугольник   АВС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ь: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=18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ельство: а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АС, 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и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;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и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-накрест лежащие.Поэтому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=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;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=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=18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 значит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=18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Line 4"/>
          <p:cNvSpPr/>
          <p:nvPr/>
        </p:nvSpPr>
        <p:spPr>
          <a:xfrm flipV="1">
            <a:off x="826920" y="2781000"/>
            <a:ext cx="115272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979640" y="2781360"/>
            <a:ext cx="100800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26920" y="4941720"/>
            <a:ext cx="21607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Line 8"/>
          <p:cNvSpPr/>
          <p:nvPr/>
        </p:nvSpPr>
        <p:spPr>
          <a:xfrm>
            <a:off x="971640" y="2637000"/>
            <a:ext cx="2808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65280" y="488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763640" y="2421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2843280" y="522936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90000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97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2484360" y="47242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835280" y="3141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547640" y="2781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2195640" y="291456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НЕШНИЙ УГО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гол смежный с каким-нибудь углом треугольника называется внешним углом треугольника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Line 4"/>
          <p:cNvSpPr/>
          <p:nvPr/>
        </p:nvSpPr>
        <p:spPr>
          <a:xfrm flipV="1">
            <a:off x="1116000" y="3789000"/>
            <a:ext cx="144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Line 5"/>
          <p:cNvSpPr/>
          <p:nvPr/>
        </p:nvSpPr>
        <p:spPr>
          <a:xfrm>
            <a:off x="2484360" y="3789360"/>
            <a:ext cx="201636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Line 7"/>
          <p:cNvSpPr/>
          <p:nvPr/>
        </p:nvSpPr>
        <p:spPr>
          <a:xfrm flipV="1">
            <a:off x="1116000" y="5445000"/>
            <a:ext cx="338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879480" y="55166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394000" y="3376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356000" y="551664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Line 11"/>
          <p:cNvSpPr/>
          <p:nvPr/>
        </p:nvSpPr>
        <p:spPr>
          <a:xfrm flipV="1">
            <a:off x="4427640" y="5373720"/>
            <a:ext cx="2449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4356000" y="5084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1332000" y="521820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239436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3851280" y="5084640"/>
            <a:ext cx="2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6748560" y="530064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войство внешнего угл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нешний угол треугольника равен сумме двух углов треугольника, не смежных с ним: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=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684360" y="3789000"/>
            <a:ext cx="180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Line 5"/>
          <p:cNvSpPr/>
          <p:nvPr/>
        </p:nvSpPr>
        <p:spPr>
          <a:xfrm>
            <a:off x="684360" y="55897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Line 6"/>
          <p:cNvSpPr/>
          <p:nvPr/>
        </p:nvSpPr>
        <p:spPr>
          <a:xfrm>
            <a:off x="2484360" y="3789360"/>
            <a:ext cx="129564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20920" y="5537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320920" y="323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68964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3708360" y="558972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383400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24164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2321280" y="39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11328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7146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СТР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 все углы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4"/>
          <p:cNvSpPr/>
          <p:nvPr/>
        </p:nvSpPr>
        <p:spPr>
          <a:xfrm flipH="1">
            <a:off x="2556000" y="3141720"/>
            <a:ext cx="3479760" cy="309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5"/>
          <p:cNvSpPr/>
          <p:nvPr/>
        </p:nvSpPr>
        <p:spPr>
          <a:xfrm flipV="1" rot="10800000">
            <a:off x="2268000" y="58719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6"/>
          <p:cNvSpPr/>
          <p:nvPr/>
        </p:nvSpPr>
        <p:spPr>
          <a:xfrm flipV="1" rot="10800000">
            <a:off x="4140000" y="2707200"/>
            <a:ext cx="6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7"/>
          <p:cNvSpPr/>
          <p:nvPr/>
        </p:nvSpPr>
        <p:spPr>
          <a:xfrm flipV="1" rot="10800000">
            <a:off x="5940000" y="59472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Туп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один из углов тупой, два других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971640" y="3716280"/>
            <a:ext cx="936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971640" y="3716280"/>
            <a:ext cx="5616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743120" y="55897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808200" y="32846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588000" y="537372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55897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63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ям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один из углов прямой, а два других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В,АС катет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С гипотену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900000" y="3357720"/>
            <a:ext cx="3672000" cy="25923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2092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92200" y="29242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572000" y="573408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104292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900000" y="5589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4:31:23Z</dcterms:created>
  <dc:creator>Математика</dc:creator>
  <dc:description/>
  <dc:language>en-US</dc:language>
  <cp:lastModifiedBy>MAMA</cp:lastModifiedBy>
  <dcterms:modified xsi:type="dcterms:W3CDTF">2009-09-06T18:59:01Z</dcterms:modified>
  <cp:revision>46</cp:revision>
  <dc:subject/>
  <dc:title>Сумма углов треугольника</dc:title>
</cp:coreProperties>
</file>